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A47-0A53-42C8-BB3A-5DEFA8A5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FC4-360B-4F5C-AA7A-468B920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D3D-2962-45EC-ABEB-17BAA08B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CD7-B623-45AC-BF04-C74A04A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DE7-73E8-408F-9272-D73ECC99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A3F-CB75-4106-B3CB-C8304E18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EE8-452B-4FE9-B282-73DDF71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200-1E85-4D4F-A9D2-682EF14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0F6-9500-47A1-9034-7FBFA73B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023-CDA3-487B-A4F9-B11CB2CE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E5B-9893-46AC-A7D7-8B3A401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B41-A7AC-4683-BAAF-E096D17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F21-34AC-4703-8C0D-B7531C1C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7.wmf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6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14300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 can only add and subtract </a:t>
            </a:r>
            <a:r>
              <a:rPr b="1" i="1" lang="en-US" sz="3400" spc="-1" strike="noStrike">
                <a:solidFill>
                  <a:srgbClr val="006600"/>
                </a:solidFill>
                <a:latin typeface="Times New Roman"/>
              </a:rPr>
              <a:t>like radical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2209680"/>
          <a:ext cx="307980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30798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5800" y="2362320"/>
          <a:ext cx="4032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362320"/>
                    <a:ext cx="403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371600" y="2895480"/>
          <a:ext cx="117936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11793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800600" y="2209680"/>
          <a:ext cx="288612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09680"/>
                    <a:ext cx="28861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952880" y="2895480"/>
          <a:ext cx="284508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2895480"/>
                    <a:ext cx="2845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52880" y="3581280"/>
          <a:ext cx="241776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581280"/>
                    <a:ext cx="2417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238880" y="3581280"/>
          <a:ext cx="137484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8880" y="3581280"/>
                    <a:ext cx="1374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280" y="3962520"/>
          <a:ext cx="3081600" cy="79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3962520"/>
                    <a:ext cx="3081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8600" y="4724280"/>
          <a:ext cx="298620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4724280"/>
                    <a:ext cx="29862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" y="5562720"/>
          <a:ext cx="2363760" cy="79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" y="5562720"/>
                    <a:ext cx="2363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19520" y="5562720"/>
          <a:ext cx="1565280" cy="798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562720"/>
                    <a:ext cx="1565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8440" y="1689120"/>
          <a:ext cx="293832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689120"/>
                    <a:ext cx="29383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" y="2590920"/>
          <a:ext cx="409572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409572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896000" y="1905120"/>
          <a:ext cx="26953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6000" y="1905120"/>
                    <a:ext cx="26953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334120" y="2666880"/>
          <a:ext cx="113184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2666880"/>
                    <a:ext cx="1131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851440" y="3429000"/>
          <a:ext cx="160668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1440" y="3429000"/>
                    <a:ext cx="1606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04920" y="5105520"/>
          <a:ext cx="3792240" cy="113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5105520"/>
                    <a:ext cx="379224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30560" y="5257800"/>
          <a:ext cx="189396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0560" y="5257800"/>
                    <a:ext cx="1893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6019920"/>
          <a:ext cx="3317760" cy="79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6019920"/>
                    <a:ext cx="3317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62520" y="6019920"/>
          <a:ext cx="336852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6019920"/>
                    <a:ext cx="3368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52280" y="3581280"/>
          <a:ext cx="965160" cy="86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2280" y="3581280"/>
                    <a:ext cx="965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14400" y="3581280"/>
          <a:ext cx="13287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3581280"/>
                    <a:ext cx="1328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057400" y="3581280"/>
          <a:ext cx="1328760" cy="863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7400" y="3581280"/>
                    <a:ext cx="1328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52680" y="3733920"/>
          <a:ext cx="766800" cy="60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3733920"/>
                    <a:ext cx="766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14400" y="4572000"/>
          <a:ext cx="45396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14400" y="4572000"/>
                    <a:ext cx="453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95280" y="4343400"/>
          <a:ext cx="1630440" cy="863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95280" y="4343400"/>
                    <a:ext cx="1630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477120" y="2666880"/>
          <a:ext cx="2033640" cy="798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2666880"/>
                    <a:ext cx="2033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867280" y="5257800"/>
          <a:ext cx="1509840" cy="798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67280" y="5257800"/>
                    <a:ext cx="1509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905120"/>
          <a:ext cx="17953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17953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52680" y="1828800"/>
          <a:ext cx="922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8288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76520" y="3657600"/>
          <a:ext cx="1753920" cy="15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657600"/>
                    <a:ext cx="1753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635280" y="5199120"/>
          <a:ext cx="95904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5199120"/>
                    <a:ext cx="9590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24280" y="5108400"/>
          <a:ext cx="1706760" cy="17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5108400"/>
                    <a:ext cx="170676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191120" y="1752480"/>
          <a:ext cx="1839960" cy="189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1752480"/>
                    <a:ext cx="183996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181480" y="2743200"/>
          <a:ext cx="45432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2743200"/>
                    <a:ext cx="4543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429000" y="2514600"/>
          <a:ext cx="92232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25146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635280" y="5867280"/>
          <a:ext cx="959040" cy="85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35280" y="5867280"/>
                    <a:ext cx="9590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468600" y="3657600"/>
          <a:ext cx="2133720" cy="150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68600" y="3657600"/>
                    <a:ext cx="21337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133720" y="5257800"/>
          <a:ext cx="1753920" cy="150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33720" y="5257800"/>
                    <a:ext cx="1753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6172200"/>
          <a:ext cx="466560" cy="560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6172200"/>
                    <a:ext cx="466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057400"/>
          <a:ext cx="208584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20858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19520" y="2057400"/>
          <a:ext cx="213048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057400"/>
                    <a:ext cx="21304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71800" y="3584520"/>
          <a:ext cx="175572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584520"/>
                    <a:ext cx="1755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76920" y="2057400"/>
          <a:ext cx="1704960" cy="15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057400"/>
                    <a:ext cx="170496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00800" y="2057400"/>
          <a:ext cx="92232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20574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477120" y="2743200"/>
          <a:ext cx="92232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7432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886200" y="4572000"/>
          <a:ext cx="42084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4572000"/>
                    <a:ext cx="420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07880" y="2057400"/>
          <a:ext cx="27957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057400"/>
                    <a:ext cx="27957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981080"/>
          <a:ext cx="241488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4148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14600" y="3809880"/>
          <a:ext cx="298944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09880"/>
                    <a:ext cx="2989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124080" y="1981080"/>
          <a:ext cx="17877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98108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4080" y="2743200"/>
          <a:ext cx="17877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274320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95880" y="1828800"/>
          <a:ext cx="175284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752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638680" y="2819520"/>
          <a:ext cx="7113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2819520"/>
                    <a:ext cx="711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324480" y="2819520"/>
          <a:ext cx="800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2819520"/>
                    <a:ext cx="800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520" y="2438280"/>
          <a:ext cx="445140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38280"/>
                    <a:ext cx="44514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3520" y="5254560"/>
          <a:ext cx="208728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254560"/>
                    <a:ext cx="20872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447920" y="2362320"/>
          <a:ext cx="369576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362320"/>
                    <a:ext cx="3695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09680" y="2514600"/>
          <a:ext cx="46836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2514600"/>
                    <a:ext cx="468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90920" y="2514600"/>
          <a:ext cx="79992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2514600"/>
                    <a:ext cx="799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2438280"/>
          <a:ext cx="85248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438280"/>
                    <a:ext cx="852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962520" y="2438280"/>
          <a:ext cx="108252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438280"/>
                    <a:ext cx="10825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768760" y="3268800"/>
          <a:ext cx="42048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68760" y="3268800"/>
                    <a:ext cx="420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029200" y="2359080"/>
          <a:ext cx="3267000" cy="160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29200" y="2359080"/>
                    <a:ext cx="32670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7200" y="3733920"/>
          <a:ext cx="2503440" cy="16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" y="3733920"/>
                    <a:ext cx="25034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819520" y="3733920"/>
          <a:ext cx="2882880" cy="160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19520" y="3733920"/>
                    <a:ext cx="28828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715000" y="3733920"/>
          <a:ext cx="2462040" cy="1604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15000" y="3733920"/>
                    <a:ext cx="24620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V="1">
            <a:off x="6248520" y="3962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3962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10280" y="48006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943600" y="3657600"/>
          <a:ext cx="403200" cy="606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43600" y="36576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934320" y="3657600"/>
          <a:ext cx="403200" cy="606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34320" y="36576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629400" y="4724280"/>
          <a:ext cx="506520" cy="606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29400" y="47242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400800" y="1447920"/>
          <a:ext cx="2508120" cy="16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447920"/>
                    <a:ext cx="25081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2057400"/>
          <a:ext cx="6494760" cy="17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057400"/>
                    <a:ext cx="64947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3657600"/>
          <a:ext cx="6580080" cy="16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657600"/>
                    <a:ext cx="6580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 flipV="1">
            <a:off x="304920" y="4191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47920" y="464832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3886200"/>
          <a:ext cx="4032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8862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066680" y="4495680"/>
          <a:ext cx="50652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44956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0" y="5175360"/>
          <a:ext cx="6883560" cy="16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175360"/>
                    <a:ext cx="68835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flipV="1">
            <a:off x="121932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3848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467480" y="5562720"/>
          <a:ext cx="127656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5562720"/>
                    <a:ext cx="1276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400800" y="1447920"/>
          <a:ext cx="2508120" cy="16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447920"/>
                    <a:ext cx="25081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0880" y="2057400"/>
          <a:ext cx="6494760" cy="17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057400"/>
                    <a:ext cx="64947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04920" y="3657600"/>
          <a:ext cx="6580080" cy="16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657600"/>
                    <a:ext cx="6580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flipV="1">
            <a:off x="304920" y="4191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447920" y="464832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3886200"/>
          <a:ext cx="4032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8862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066680" y="4495680"/>
          <a:ext cx="50652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44956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5175360"/>
          <a:ext cx="6883560" cy="16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175360"/>
                    <a:ext cx="68835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V="1">
            <a:off x="121932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03848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467480" y="5562720"/>
          <a:ext cx="127656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5562720"/>
                    <a:ext cx="1276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18T17:13:53Z</dcterms:modified>
  <cp:revision>63</cp:revision>
  <dc:subject/>
  <dc:title>No Slide Title</dc:title>
</cp:coreProperties>
</file>